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9.jpeg" ContentType="image/jpeg"/>
  <Override PartName="/ppt/media/image8.jpeg" ContentType="image/jpeg"/>
  <Override PartName="/ppt/media/image38.png" ContentType="image/pn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34.jpeg" ContentType="image/jpeg"/>
  <Override PartName="/ppt/media/image37.png" ContentType="image/png"/>
  <Override PartName="/ppt/media/image1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441-2D15-4F12-A472-78E3AF69C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C72-6E66-49A8-A7E4-09982538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D320-0A36-428E-96A0-1224CB2A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464E-07F9-48AD-9C14-849FEA29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5BF4C9-0178-4205-A6A2-C5E94A63E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557837-83B2-4BDB-A4C0-C9B9F756D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950E6-AF29-4834-9788-F80A6FAD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86DDE-D4F4-4019-96EE-CB4A1F47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334A1-7FC8-48AB-9812-EAF73609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EE364-2182-4CA4-9EF4-9C9774B6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BDC48-A25E-49D3-A899-887A0681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4F2-6177-486F-A9E1-C825D249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E4D89-E1DB-4440-973B-B8B74BDA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C49AA-A1FC-4530-95F0-F6C257D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A257B-68F6-402D-8307-0BAC9C8B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B0C61-C531-41B1-B2EC-C5154DD7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754BE-ECCD-4AE3-90C8-AA799AE9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346-94E8-4308-ADCE-423529D4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01C7-81DF-451A-A292-DC3328C95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3059-28A7-48D5-80BF-FB4B90DF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F263-7CB3-44B8-AD28-A429630C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EEE-46A1-4CD2-B1E0-415331D1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99E-AEEC-46F0-8B02-D61A85B7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90B0-FDED-4B55-B361-11172CB7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5D57E-A4A9-4909-AC6F-A66495610518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70B0D-73FF-4259-AA58-C7AC8DCCC92C}" type="slidenum"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26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FZ Seminar: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lpenflu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258560" y="3428640"/>
            <a:ext cx="66978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nwahl in einzelnen Gebie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ttervorhers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itere Theme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3ff"/>
                </a:solidFill>
                <a:latin typeface="Arial"/>
              </a:rPr>
              <a:t>Glemmt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flug so, um am Hundstein in 1800 m anzukom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undste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flug in 2500 m um in 2150 m am Bärenkogel (Eingang Gasteiner Tal) anzukom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3ff"/>
                </a:solidFill>
                <a:latin typeface="Arial"/>
              </a:rPr>
              <a:t>Gasteinert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öhe zum Sprung über den Alpenhauptkamm möglichst früh kurbeln, da der Stubnerkogel sehr unzuverlässig 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ach Querung rechts oder link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ine einheitliche Strate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urbeln direkt nach der Queru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nwahl vom Wind abhängig ma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oßraum Goldec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eine einheitliche beste St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ster Bart steht wohl an den kleinen Hügeln danach Richtung Dobrats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trecken &gt; 700 km 2004 - 2006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9325080" cy="69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3ff"/>
                </a:solidFill>
                <a:latin typeface="Arial"/>
              </a:rPr>
              <a:t>Dobratsch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r der Wende kommt man meist in Basishöhe an und kann direkt zu den Karawanken flie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arawanke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hr oft rein dynamisch im Brisen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Karnische oder Gailtal Nordseite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ine einheitliche Strate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nwahl von der Optik und vom Wind abhängig ma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stabflug: Erster Bar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- Luckenkopf / Fockenstein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Hirschberg (1600 m &gt; 1900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Risserkogel (1700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ustertal Nord- oder Südseite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ine einheitliche Strateg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nwahl von der Optik und vom Wind abhängig mach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üdseite sollte man nur wählen, wenn man am Kreuzbergsattel 3500 m oder höher erreich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3ff"/>
                </a:solidFill>
                <a:latin typeface="Arial"/>
              </a:rPr>
              <a:t>Großraum Plos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ine einheitliche beste St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3ff"/>
                </a:solidFill>
                <a:latin typeface="Arial"/>
              </a:rPr>
              <a:t>Sarntaler Queru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ster Bart vorher steht wohl an der Rippe an der Franzenfe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Nördlicher Route einfacher, weil man Hang parallel flieg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andemöglichkeiten: Sterzing und Boz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Vintschgau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ster Bart steht im Schnalstal (relativ weit um die Ecke ru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itzner Spitze: „Tschirgant des Vintschgaus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inzige Landemöglichkeit in Schlud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e3e3ff"/>
                </a:solidFill>
                <a:latin typeface="Arial"/>
              </a:rPr>
              <a:t>Zwischen Litzner Spitze und Engadi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verlässigster Bart am i Grepp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Querung Engad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ängt stark von der gewählten zweiten Wende 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heinta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ste Wende liegt vorher: z.B.: Piz Gris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influg Engadi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ängt stark von der gewählten zweiten Wende a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3ff"/>
                </a:solidFill>
                <a:latin typeface="Arial"/>
              </a:rPr>
              <a:t>Rotwand / Maroldschnei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nnwendjoch selten echte Altern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kunft 1700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flug 2200 m für Kaiser Ankunft 1600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anflu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Endanflugbart am Acherkog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Letzte Chance an der westlichen Karwendelspit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outenwahl bei Westabflu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ttervorhersa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P Wetterweck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c Met Vor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C Met Flug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PV Met top tas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5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eitere Themen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elen Dan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öne Flüge, viele Kilometer und immer happy landings in 2007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Wilder Kaiser: alternativ zahmer Kaiser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Zu selten probie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Kurbeln ganz am Anf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Bester Bart an der Ecke, spätestens!!! am Gaudeam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Abflug für Wallerberg 1900 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e3e3ff"/>
                </a:solidFill>
                <a:latin typeface="Arial"/>
              </a:rPr>
              <a:t>Wallerber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ht auch unter Hang (1400 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flug 2200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6:04:26Z</dcterms:created>
  <dc:creator>Mathias Schunk</dc:creator>
  <dc:description/>
  <dc:language>en-US</dc:language>
  <cp:lastModifiedBy>Mathias Schunk</cp:lastModifiedBy>
  <dcterms:modified xsi:type="dcterms:W3CDTF">2007-02-16T15:17:48Z</dcterms:modified>
  <cp:revision>153</cp:revision>
  <dc:subject/>
  <dc:title>Alpenflug Erfahrungsaustausch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450000000000010242300207e6000400038000</vt:lpwstr>
  </property>
</Properties>
</file>